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11.png" ContentType="image/png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6C4F-CC55-4794-B98D-8F54969A5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EC98-F45E-4A8A-B490-3117A45E1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E0B7-F39E-4E9D-AAFE-204829A62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60DA-43AB-4798-88AA-31171EF59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903E-F011-4668-AB50-BF1CADAA2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BE59-4A01-456D-AB3B-0053E41A3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8904-6749-4788-94B3-52082FA4E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0171-1847-4062-A96F-5EFBFE998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B35F-1D1D-49E8-B231-101CDFAF4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A6E7-9C19-44EC-8F10-CEDD94A84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8FFC-F678-4901-9E87-1FA63B9B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DE37-E9F1-49C9-B269-CEEAE765B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B2270-5930-49A8-9485-AE9C5671123A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image" Target="../media/image6.png"/><Relationship Id="rId11" Type="http://schemas.openxmlformats.org/officeDocument/2006/relationships/package" Target="../embeddings/oleObject4.docx"/><Relationship Id="rId12" Type="http://schemas.openxmlformats.org/officeDocument/2006/relationships/image" Target="../media/image8.wmf"/><Relationship Id="rId1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image" Target="../media/image6.png"/><Relationship Id="rId11" Type="http://schemas.openxmlformats.org/officeDocument/2006/relationships/package" Target="../embeddings/oleObject4.docx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image" Target="../media/image6.png"/><Relationship Id="rId11" Type="http://schemas.openxmlformats.org/officeDocument/2006/relationships/package" Target="../embeddings/oleObject4.docx"/><Relationship Id="rId12" Type="http://schemas.openxmlformats.org/officeDocument/2006/relationships/image" Target="../media/image10.wmf"/><Relationship Id="rId1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5.wmf"/><Relationship Id="rId11" Type="http://schemas.openxmlformats.org/officeDocument/2006/relationships/hyperlink" Target="mailto:carlyle.laia@semad.mg.gov.br" TargetMode="External"/><Relationship Id="rId1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image" Target="../media/image6.png"/><Relationship Id="rId11" Type="http://schemas.openxmlformats.org/officeDocument/2006/relationships/hyperlink" Target="http://www.convenentes.mg.gov.br/" TargetMode="External"/><Relationship Id="rId1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6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203280" y="3715920"/>
            <a:ext cx="594036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Century Gothic"/>
              </a:rPr>
              <a:t>Sistema Estadual de Meio Amb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8920" y="2637000"/>
            <a:ext cx="374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4d4d4d"/>
                </a:solidFill>
                <a:latin typeface="Arial"/>
              </a:rPr>
              <a:t>SISEM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2771640" y="638172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925800" y="6453360"/>
            <a:ext cx="790560" cy="225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218200" y="6364440"/>
            <a:ext cx="793800" cy="3492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 rot="5400000">
            <a:off x="5220000" y="2996280"/>
            <a:ext cx="287280" cy="289080"/>
          </a:xfrm>
          <a:prstGeom prst="rect">
            <a:avLst/>
          </a:prstGeom>
          <a:solidFill>
            <a:srgbClr val="6cbc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5400000">
            <a:off x="4499280" y="2996280"/>
            <a:ext cx="287280" cy="289080"/>
          </a:xfrm>
          <a:prstGeom prst="rect">
            <a:avLst/>
          </a:prstGeom>
          <a:solidFill>
            <a:srgbClr val="346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5400000">
            <a:off x="3708720" y="2996280"/>
            <a:ext cx="287280" cy="289080"/>
          </a:xfrm>
          <a:prstGeom prst="rect">
            <a:avLst/>
          </a:prstGeom>
          <a:solidFill>
            <a:srgbClr val="815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0" y="4292640"/>
          <a:ext cx="9144000" cy="9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4292640"/>
                    <a:ext cx="9144000" cy="9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1547640" y="6308640"/>
          <a:ext cx="673200" cy="389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547640" y="6308640"/>
                    <a:ext cx="67320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6443640" y="6237360"/>
            <a:ext cx="100800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1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7" name="" descr=""/>
          <p:cNvPicPr/>
          <p:nvPr/>
        </p:nvPicPr>
        <p:blipFill>
          <a:blip r:embed="rId10"/>
          <a:stretch/>
        </p:blipFill>
        <p:spPr>
          <a:xfrm>
            <a:off x="8099280" y="404640"/>
            <a:ext cx="936720" cy="4129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0" y="1268280"/>
            <a:ext cx="874872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dastro geral de convenentes – CAG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ulamentado pelo Decreto 44.293/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92200" y="3089160"/>
            <a:ext cx="6572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denciamento e habitação dos órgãos e entidades interessados em celebrar convênios no âmbito do Estado de Minas Gerais, gerenciado pela Auditoria Geral do est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3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9" name="" descr=""/>
          <p:cNvPicPr/>
          <p:nvPr/>
        </p:nvPicPr>
        <p:blipFill>
          <a:blip r:embed="rId10"/>
          <a:stretch/>
        </p:blipFill>
        <p:spPr>
          <a:xfrm>
            <a:off x="8099280" y="404640"/>
            <a:ext cx="936720" cy="4129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900000" y="12682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 que é necessário para celebração de convênios - entr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2560" y="2649600"/>
            <a:ext cx="8518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jeto a ser executado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statuto do convenente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ocumentação do dirigente ( CPF, CI, Comprovant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dereço e ato de posse)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ertidões negativas ( FGTS, PIS/PASEP, CND )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eclaração de contrapartida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5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1" name="" descr=""/>
          <p:cNvPicPr/>
          <p:nvPr/>
        </p:nvPicPr>
        <p:blipFill>
          <a:blip r:embed="rId10"/>
          <a:stretch/>
        </p:blipFill>
        <p:spPr>
          <a:xfrm>
            <a:off x="8099280" y="404640"/>
            <a:ext cx="936720" cy="4129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900000" y="865080"/>
            <a:ext cx="784872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LUXO FORMALIZ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ÊNIOS DE SAÍ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4000" y="2133720"/>
            <a:ext cx="136836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n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97440" y="2133720"/>
            <a:ext cx="151128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Área Técn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942160" y="2133720"/>
            <a:ext cx="107928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667640" y="2133720"/>
            <a:ext cx="115236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ríd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79280" y="4221000"/>
            <a:ext cx="151308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ula proje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ifesta interes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preenche Pla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Trabalh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683160" y="4221000"/>
            <a:ext cx="189684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isa e emite parec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653080" y="4221000"/>
            <a:ext cx="158436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ifica documenta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abora minuta 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caminha 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rídi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308720" y="4221000"/>
            <a:ext cx="1584360" cy="10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isa, em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cer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cela o termo, co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he assinatura e pu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044720" y="2852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88000" y="2852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45080" y="2852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245440" y="2852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346560" y="249228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494320" y="2495520"/>
            <a:ext cx="446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091280" y="2486160"/>
            <a:ext cx="577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230560" y="2125800"/>
            <a:ext cx="111744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692360" y="2486160"/>
            <a:ext cx="538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763640" y="4221000"/>
            <a:ext cx="180036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isa a disponibilid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çamentária/financei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771640" y="2852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5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1" name="" descr=""/>
          <p:cNvPicPr/>
          <p:nvPr/>
        </p:nvPicPr>
        <p:blipFill>
          <a:blip r:embed="rId10"/>
          <a:stretch/>
        </p:blipFill>
        <p:spPr>
          <a:xfrm>
            <a:off x="8099280" y="404640"/>
            <a:ext cx="936720" cy="4129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900000" y="8650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LUXO CONVÊNIOS DE ENTR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39640" y="2133720"/>
            <a:ext cx="136836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Área Técn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861080" y="2133720"/>
            <a:ext cx="151128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ed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164360" y="2133720"/>
            <a:ext cx="107964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95280" y="4221000"/>
            <a:ext cx="180036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labora projeto, preen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lano de trabalho e enca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inha ao conced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500720" y="4221000"/>
            <a:ext cx="215892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isa proposta do convên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 aprovado assinar o ter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732720" y="4221000"/>
            <a:ext cx="194292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re conta específic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úne docum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astra plano de trabal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osita contrapart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260360" y="2852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651640" y="2852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740720" y="2852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49840" y="2492280"/>
            <a:ext cx="96336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372360" y="24955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733840" y="2125800"/>
            <a:ext cx="111744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908000" y="2486160"/>
            <a:ext cx="825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38560" y="4221000"/>
            <a:ext cx="201744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Informa disponibilid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e recursos orçamentario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inanceiro de contrapart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276720" y="2852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1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7" name="" descr=""/>
          <p:cNvPicPr/>
          <p:nvPr/>
        </p:nvPicPr>
        <p:blipFill>
          <a:blip r:embed="rId10"/>
          <a:stretch/>
        </p:blipFill>
        <p:spPr>
          <a:xfrm>
            <a:off x="8099280" y="404640"/>
            <a:ext cx="936720" cy="4129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900000" y="1222200"/>
            <a:ext cx="784872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GCON-M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ulamentado pelo Decreto 44.424/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6200" y="3214800"/>
            <a:ext cx="8372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stema para acompanhar, coordenar e controlar os instrumentos de natureza financeira que permitam a entrada e de saída de recurso no Tesouro Estad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3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9" name="" descr=""/>
          <p:cNvPicPr/>
          <p:nvPr/>
        </p:nvPicPr>
        <p:blipFill>
          <a:blip r:embed="rId10"/>
          <a:stretch/>
        </p:blipFill>
        <p:spPr>
          <a:xfrm>
            <a:off x="8099280" y="404640"/>
            <a:ext cx="936720" cy="4129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900000" y="1268280"/>
            <a:ext cx="7848720" cy="51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ANO DE TRABAL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 o instrumento que integra a solicitação de convênio, contendo todo o detalhamento das responsabilidades assumidas por cada um dos partícipes. É o documento elaborado pelo convenente titular da instituição responsável pelo programa, constituindo-se na peça mais importante para obtenção dos recursos, vez que servirá de base para o estabelecimento das cláusulas do convênio, a sua execução, controle, fiscalização e prestação de con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4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0" name="" descr=""/>
          <p:cNvPicPr/>
          <p:nvPr/>
        </p:nvPicPr>
        <p:blipFill>
          <a:blip r:embed="rId10"/>
          <a:stretch/>
        </p:blipFill>
        <p:spPr>
          <a:xfrm>
            <a:off x="8099280" y="404640"/>
            <a:ext cx="936720" cy="4129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900000" y="1268280"/>
            <a:ext cx="7848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39640" y="1413000"/>
            <a:ext cx="8136000" cy="50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plano de trabalho deverá cont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zões que justifiquem a celebração do convêni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ção completa do projeto a ser executad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metas e fases qualitativas e quantitativas, com previsão de início e fi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isão expressa dos critérios objetivos de avaliação de desempenho a serem utilizad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nograma e o plano de aplicação dos recursos financeir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ntrapartida financeira do proponente, se for o caso, para cada projeto ou event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ficação do bem a ser produzido ou adquiri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6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2" name="" descr=""/>
          <p:cNvPicPr/>
          <p:nvPr/>
        </p:nvPicPr>
        <p:blipFill>
          <a:blip r:embed="rId10"/>
          <a:stretch/>
        </p:blipFill>
        <p:spPr>
          <a:xfrm>
            <a:off x="8099280" y="404640"/>
            <a:ext cx="936720" cy="4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3" name=""/>
          <p:cNvGraphicFramePr/>
          <p:nvPr/>
        </p:nvGraphicFramePr>
        <p:xfrm>
          <a:off x="2262240" y="907920"/>
          <a:ext cx="5838840" cy="554544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262240" y="907920"/>
                    <a:ext cx="5838840" cy="554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8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4" name="" descr=""/>
          <p:cNvPicPr/>
          <p:nvPr/>
        </p:nvPicPr>
        <p:blipFill>
          <a:blip r:embed="rId10"/>
          <a:stretch/>
        </p:blipFill>
        <p:spPr>
          <a:xfrm>
            <a:off x="8099280" y="404640"/>
            <a:ext cx="936720" cy="4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5" name=""/>
          <p:cNvGraphicFramePr/>
          <p:nvPr/>
        </p:nvGraphicFramePr>
        <p:xfrm>
          <a:off x="1919160" y="865080"/>
          <a:ext cx="5964480" cy="565956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919160" y="865080"/>
                    <a:ext cx="5964480" cy="565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0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6" name="" descr=""/>
          <p:cNvPicPr/>
          <p:nvPr/>
        </p:nvPicPr>
        <p:blipFill>
          <a:blip r:embed="rId10"/>
          <a:stretch/>
        </p:blipFill>
        <p:spPr>
          <a:xfrm>
            <a:off x="8099280" y="404640"/>
            <a:ext cx="936720" cy="4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7" name=""/>
          <p:cNvGraphicFramePr/>
          <p:nvPr/>
        </p:nvGraphicFramePr>
        <p:xfrm>
          <a:off x="2016000" y="749160"/>
          <a:ext cx="5796000" cy="570420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16000" y="749160"/>
                    <a:ext cx="5796000" cy="570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6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382560" y="3068280"/>
            <a:ext cx="576108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Century Gothic"/>
              </a:rPr>
              <a:t>Palestran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Century Gothic"/>
              </a:rPr>
              <a:t>Da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177336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entury Gothic"/>
              </a:rPr>
              <a:t>Treinamento de </a:t>
            </a:r>
            <a:r>
              <a:rPr b="0" lang="en-US" sz="3600" spc="-1" strike="noStrike">
                <a:solidFill>
                  <a:srgbClr val="4d4d4d"/>
                </a:solidFill>
                <a:latin typeface="Century Gothic"/>
              </a:rPr>
              <a:t>Planejamento</a:t>
            </a:r>
            <a:r>
              <a:rPr b="0" lang="en-US" sz="3200" spc="-1" strike="noStrike">
                <a:solidFill>
                  <a:srgbClr val="4d4d4d"/>
                </a:solidFill>
                <a:latin typeface="Century Gothic"/>
              </a:rPr>
              <a:t> e Gestã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2773440" y="6381720"/>
            <a:ext cx="718920" cy="297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924360" y="6453360"/>
            <a:ext cx="792000" cy="225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5219640" y="6364440"/>
            <a:ext cx="792360" cy="349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0" y="2654280"/>
          <a:ext cx="9144000" cy="9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2654280"/>
                    <a:ext cx="9144000" cy="9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1547640" y="6308640"/>
          <a:ext cx="673200" cy="389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547640" y="6308640"/>
                    <a:ext cx="67320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3" name="" descr=""/>
          <p:cNvPicPr/>
          <p:nvPr/>
        </p:nvPicPr>
        <p:blipFill>
          <a:blip r:embed="rId8"/>
          <a:stretch/>
        </p:blipFill>
        <p:spPr>
          <a:xfrm>
            <a:off x="6443640" y="6237360"/>
            <a:ext cx="1008000" cy="4446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845600" y="30160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anna Mesquita e Carlyle La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95800" y="330516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/02/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2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4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6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08" name="" descr=""/>
          <p:cNvPicPr/>
          <p:nvPr/>
        </p:nvPicPr>
        <p:blipFill>
          <a:blip r:embed="rId10"/>
          <a:stretch/>
        </p:blipFill>
        <p:spPr>
          <a:xfrm>
            <a:off x="8099280" y="404640"/>
            <a:ext cx="936720" cy="41292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900000" y="1268280"/>
            <a:ext cx="7848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95280" y="865080"/>
            <a:ext cx="8352000" cy="60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S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isar e autorizar alterações no convênio, mediante justificativas, após acordado com a Diretoria técnic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ompanhar a execução física e financeira do convêni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aborar o relatório físico e apresentar o relatório técnico (convênio de entrada de recurso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esentar o relatório técnico e aprovar o relatório físico – financeiro (convênio de saída de recurso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entar para a vigência do convên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4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6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8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20" name="" descr=""/>
          <p:cNvPicPr/>
          <p:nvPr/>
        </p:nvPicPr>
        <p:blipFill>
          <a:blip r:embed="rId10"/>
          <a:stretch/>
        </p:blipFill>
        <p:spPr>
          <a:xfrm>
            <a:off x="8099280" y="404640"/>
            <a:ext cx="936720" cy="41292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900000" y="1268280"/>
            <a:ext cx="7848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95280" y="1268280"/>
            <a:ext cx="8352000" cy="37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IMPORTA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m Plano de Trabalho bem elaborado e um acompanhamento das metas e fases do convênio pelo Gestor, significa uma boa execuçã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6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8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0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2" name="" descr=""/>
          <p:cNvPicPr/>
          <p:nvPr/>
        </p:nvPicPr>
        <p:blipFill>
          <a:blip r:embed="rId10"/>
          <a:stretch/>
        </p:blipFill>
        <p:spPr>
          <a:xfrm>
            <a:off x="8099280" y="404640"/>
            <a:ext cx="936720" cy="41292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900000" y="1268280"/>
            <a:ext cx="7848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68360" y="1413000"/>
            <a:ext cx="8351640" cy="45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LICITAÇÃO DE PAGAMENTO DOS CONVÊN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ordenadoria de Convênios informará mensalmente através de MEMO aos Gerentes de Ação a situação da prestação de contas dos convenentes para que sejam liberadas as próximas parcel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Gerente da Ação deverá aprovar e incluir no planejamento os convênios, informando qual a fonte financiado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96720" y="1268280"/>
            <a:ext cx="835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9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1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3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45" name="" descr=""/>
          <p:cNvPicPr/>
          <p:nvPr/>
        </p:nvPicPr>
        <p:blipFill>
          <a:blip r:embed="rId10"/>
          <a:stretch/>
        </p:blipFill>
        <p:spPr>
          <a:xfrm>
            <a:off x="8099280" y="404640"/>
            <a:ext cx="936720" cy="41292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2771640" y="2424240"/>
            <a:ext cx="122400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r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075280" y="2424240"/>
            <a:ext cx="122400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453440" y="2422440"/>
            <a:ext cx="122400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698920" y="3862440"/>
            <a:ext cx="1296720" cy="9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embol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ên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075280" y="3863880"/>
            <a:ext cx="1368360" cy="10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entrali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164360" y="3863880"/>
            <a:ext cx="1871640" cy="1293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ere 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rogramação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bera o recur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348000" y="292752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724360" y="292752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8101080" y="292752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915560" y="968400"/>
            <a:ext cx="586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LUXO DE DESEMBOLS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VÊNIOS DE SAÍ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995640" y="263844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99280" y="2629080"/>
            <a:ext cx="11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79280" y="2424240"/>
            <a:ext cx="187164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ordenad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 Convên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79280" y="3862440"/>
            <a:ext cx="216072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orma situa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 prestação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as do conven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116000" y="29289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019240" y="2638440"/>
            <a:ext cx="752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5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7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9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71" name="" descr=""/>
          <p:cNvPicPr/>
          <p:nvPr/>
        </p:nvPicPr>
        <p:blipFill>
          <a:blip r:embed="rId10"/>
          <a:stretch/>
        </p:blipFill>
        <p:spPr>
          <a:xfrm>
            <a:off x="8099280" y="404640"/>
            <a:ext cx="936720" cy="41292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1295280" y="1197000"/>
            <a:ext cx="7848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84360" y="1432080"/>
            <a:ext cx="7775280" cy="43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strução Normativa n.º 07/200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ender ao Tribunal de Contas do Estado de Minas Gerais através da Instrução normativa nº. 07/03 que estabelece normas de fiscalização contábil, financeira, orçamentária, operacional e patrimonial nas administrações Direta e Indireta do Est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: Os Regionais e Supram’s devem encaminhar os anexos até o dia 20 de cada mês, impreterivel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659640" y="2997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9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1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3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5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33520" y="2254320"/>
            <a:ext cx="8153280" cy="39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Superintendente: Carlyle dos Passos La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e-mail: </a:t>
            </a:r>
            <a:r>
              <a:rPr b="0" lang="en-US" sz="2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carlyle.laia@semad.mg.gov.b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Telefone: (031) 32195430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Coordenadoria de Convêni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e-mail:</a:t>
            </a:r>
            <a:r>
              <a:rPr b="1" lang="en-US" sz="2200" spc="-1" strike="noStrike">
                <a:solidFill>
                  <a:srgbClr val="009999"/>
                </a:solidFill>
                <a:latin typeface="Arial"/>
              </a:rPr>
              <a:t>alanna.mesquita@semad.mg.gov.b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Coordenadora: Alanna Mesquita Gonçal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Telefone: (031) 3219542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09480" y="1143000"/>
            <a:ext cx="807732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d4d4d"/>
                </a:solidFill>
                <a:latin typeface="Arial"/>
              </a:rPr>
              <a:t>Superintendência de Contabilidade e Finanç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5" name="" descr=""/>
          <p:cNvPicPr/>
          <p:nvPr/>
        </p:nvPicPr>
        <p:blipFill>
          <a:blip r:embed="rId10"/>
          <a:stretch/>
        </p:blipFill>
        <p:spPr>
          <a:xfrm>
            <a:off x="8099280" y="404640"/>
            <a:ext cx="936720" cy="4129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879480" y="193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95480" y="1792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84200" y="1792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26920" y="1989000"/>
            <a:ext cx="79218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ênio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gislaçã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no de Trabalh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stor de Convênio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licitação de Pagament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trução Normativa 07/200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9" name="" descr=""/>
          <p:cNvPicPr/>
          <p:nvPr/>
        </p:nvPicPr>
        <p:blipFill>
          <a:blip r:embed="rId10"/>
          <a:stretch/>
        </p:blipFill>
        <p:spPr>
          <a:xfrm>
            <a:off x="8099280" y="404640"/>
            <a:ext cx="936720" cy="412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50920" y="1413000"/>
            <a:ext cx="8642160" cy="38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vên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mento que disciplina a transferência de recursos públicos da Administração Pública Estadual, para órgãos e entidades de qualquer nível de governo ou para instituições privadas, visando a execução de programas de trabalho ou de outros eventos com duração certa, em regime de mútua cooper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0" name="" descr=""/>
          <p:cNvPicPr/>
          <p:nvPr/>
        </p:nvPicPr>
        <p:blipFill>
          <a:blip r:embed="rId10"/>
          <a:stretch/>
        </p:blipFill>
        <p:spPr>
          <a:xfrm>
            <a:off x="8099280" y="404640"/>
            <a:ext cx="936720" cy="4129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50920" y="1413000"/>
            <a:ext cx="8642160" cy="34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mo de Cooper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É o instrumento utilizado para formalizar inter-relações de cooperação técnica que não envolvam transferência de recursos financei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1" name="" descr=""/>
          <p:cNvPicPr/>
          <p:nvPr/>
        </p:nvPicPr>
        <p:blipFill>
          <a:blip r:embed="rId10"/>
          <a:stretch/>
        </p:blipFill>
        <p:spPr>
          <a:xfrm>
            <a:off x="8099280" y="404640"/>
            <a:ext cx="936720" cy="412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50920" y="1413000"/>
            <a:ext cx="8642160" cy="49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GISLA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âmbito do Estado de Minas Gerais, a celebração e prestação de contas de convênios de natureza financeira que tenham por objeto a execução de projetos ou a realização de eventos está regulamentada pelo Decreto n.º 43.635, de 20 de outubro de 2003 e Lei 8.666/93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 esfera Federal os convênios são regulamentados pela Instrução Normativa nº 01/97 e Lei 8.666/9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6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2" name="" descr=""/>
          <p:cNvPicPr/>
          <p:nvPr/>
        </p:nvPicPr>
        <p:blipFill>
          <a:blip r:embed="rId10"/>
          <a:stretch/>
        </p:blipFill>
        <p:spPr>
          <a:xfrm>
            <a:off x="8099280" y="404640"/>
            <a:ext cx="936720" cy="4129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755640" y="1413000"/>
            <a:ext cx="806436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SES DO CONVÊN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i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ebração/formalizaç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tação de Cont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7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3" name="" descr=""/>
          <p:cNvPicPr/>
          <p:nvPr/>
        </p:nvPicPr>
        <p:blipFill>
          <a:blip r:embed="rId10"/>
          <a:stretch/>
        </p:blipFill>
        <p:spPr>
          <a:xfrm>
            <a:off x="8099280" y="404640"/>
            <a:ext cx="936720" cy="4129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755640" y="134136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16000" y="1052640"/>
            <a:ext cx="7129440" cy="54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ABORAÇÃO DO PROJ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projeto a ser encaminhado deve cont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ítul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m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resentaçã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nostico/contextualizaçã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tiv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stificativ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de realização e área de abrangênci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ições envolvidas no projet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as e atividad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odologi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umos ou recurs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9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5" name="" descr=""/>
          <p:cNvPicPr/>
          <p:nvPr/>
        </p:nvPicPr>
        <p:blipFill>
          <a:blip r:embed="rId10"/>
          <a:stretch/>
        </p:blipFill>
        <p:spPr>
          <a:xfrm>
            <a:off x="8099280" y="404640"/>
            <a:ext cx="936720" cy="4129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900000" y="12682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 que é necessário para celebração de convênios - saí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06560" y="2448000"/>
            <a:ext cx="924228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Manifestação do convenente com projeto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Cadastro Regular na Auditoria Geral do Estado – CAGEC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convenentes.mg.gov.b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Plano de trabalho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Parecer da área técnica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Dotação orçamentária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Parecer Jurídico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7T17:14:56Z</dcterms:created>
  <dc:creator>Daniela Giordano</dc:creator>
  <dc:description/>
  <dc:language>en-US</dc:language>
  <cp:lastModifiedBy>semad</cp:lastModifiedBy>
  <dcterms:modified xsi:type="dcterms:W3CDTF">2008-02-19T13:06:30Z</dcterms:modified>
  <cp:revision>64</cp:revision>
  <dc:subject/>
  <dc:title>Slide 1</dc:title>
</cp:coreProperties>
</file>